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EC0E-8DCB-4A49-A315-C882708417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2E79-E88D-4D87-B717-717F2CF126F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B35E-A8C3-47F4-A4B2-15176042254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DC8A-D02E-463D-853E-8F3042E2FA8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5535-FFA0-475B-898A-6CE8BBA8B0A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249B-11BA-41A2-B897-BD4DF1FA8FB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FF2D-6C2F-4E50-A464-99CD0722EA5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0B88-D61B-4940-B0A5-3D2BEF0E00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9C8D-1655-4B36-AECF-3917D21995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9B6B-F948-48BD-A511-17CC206A4E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BD41-5C6E-4B42-BB38-F6FD9AEB2C2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A811-E5BA-4245-97A7-68E152622A1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B688-3B6F-43F7-91DD-7B0D98DF8DA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3B17-AEE8-4674-A8A9-E9541CF561D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A60B-CC21-48DF-9375-211F18D4767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68EFE-BEFB-49A7-A197-942D70CB6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FBA59-208C-4722-A07E-8049A3F8DC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3610B-2DD3-4D31-8FFD-E867EF14341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C14CB5-E5FA-403D-8091-82A301F9EAB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8FA66-F9CE-4D2A-BE21-66A8A4BA5D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690F1-01C8-4313-AEF7-A567BDF28BA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BDF41-D189-41D9-A8EE-B09C0CC8BFE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FBCA80-2ECA-4558-BEC8-AEE59395614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CA5AD-3F06-4EA0-B74A-2B45D4EA7AC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2F71B6-0AC6-40F1-A64C-426C3BA382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FA5855-9DE7-4F0F-95D3-3D0438CF7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BA057-DAB8-4EC6-878F-89DFC1827A5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20598-1533-4CAE-93DF-C9C64F42EDA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86C56-A8DC-4407-8BC4-80722A45268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47297-1877-4B48-8F95-2E7C37880DB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F70C1-C2E8-4042-99CF-0673F4F1B1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1A2C5-28CD-45A7-973F-F9B40B62FBD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08D68-E6B3-49D2-BF10-8952299FFE6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CF8EE-4EB6-4A27-9D7D-0B5A5F81DFB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6E69B-8CCB-491B-8356-F49339BFE98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A8B1F-DC86-4490-8A7E-BAC60F0C4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BFFE-6D16-4457-968D-646486D0392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E1C49-6B83-4E5F-AB99-E4A6938D7F2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9C7B7-EA89-42EC-BC42-63F591910B6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88E26-B073-4757-8A5B-BE93A37C336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0356-1F48-4BEF-BED0-0A242BE8B7F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1ACD-679F-414A-84C6-9AC7982039B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36C3-E03A-42BF-A378-D6C832DF64B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9177-FBF2-4C01-A07F-4CC18BC6B0F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0CB8-AB53-47E9-B498-01C846FAA13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C7243-11FC-42E4-97B9-E9A0F5165FC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CE35B-1F9D-4418-94C4-1B8E9D2CD0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673A-0EB2-432B-A1DF-75113EAC9F0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2918-6034-49AF-B6C5-7B64C2A4A6A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09B9-B81A-4709-8128-C8741B25999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B6AC-EFB4-4152-96ED-F43BCA1CBBF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8FA8-C679-4BAB-AFA6-F4DFD679278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AA7D-B16C-4FB9-8AFA-AF7975943C5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966F0-5D11-4C11-9F1C-1FBFE9C9547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FEA8F3-3A93-4047-8F3E-B7677577AC7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94452-9C9B-4878-8CE7-D2F505AD44B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6A5E6-92C3-49E8-9BFF-41B3DF3A5A1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07157-F516-4BF0-B864-8D58E3CB35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BE02-461B-4A99-9251-13B139D50A2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0FE739-3353-456F-B020-151B9611558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898183-9344-46D1-8960-F2FBA1FE96D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A7ABF-2F00-401B-BFD2-463C63CD7E1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B29A4-5575-4B80-A63E-FC6A9AD5EC4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39A1A-4812-49B7-B4B9-CE653A29668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425DF-A314-4B1D-BF45-ED27FDD83AC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EDAA67-D8C6-4FE5-87AB-4C6AF2BDB62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6C701-CD3E-4BBB-8D0F-E8CD3F93ABC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D41E1-F2B8-42D4-8F25-A72F9E15084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51DB4-0C70-43D0-B46A-D66946F689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391E-FAAF-4F22-B302-E99901B5ED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822C3-9AD7-4B48-984C-418C4233D88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32EC3-0258-4AC5-966A-948AD3CDD2E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AFD2F-8794-43BC-A3BE-AB98C2A8A20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59F92-A632-46FC-9099-133635F3660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67224-E062-477D-A407-734B3DB8B6C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A08CAA-890B-482C-8BB5-2A37F6E6728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F5D5C-75EC-4783-9075-85DC8E8C7AC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790C8-2674-4A6D-B27F-D90791C8B92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DB1765-9131-4B9F-A905-900895D048E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5B8D-CAF3-4C4B-BFFC-5AE66B0680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FAAF-BCFA-451A-8782-F28D7AF48CD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FDFB-6887-4B57-AC81-76D51FF014C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77F77-EC30-4B11-BD01-3419392304F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C6A9B-50BC-46DC-92E5-730947F9847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E50C-200B-4286-904B-AB4EF55376F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16BE-DB6B-4A95-B411-5CF86E93193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9EE8-7753-4233-8196-4059E179941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8292-C005-45B0-849B-512D260C370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C039-6C72-449E-B01C-D8D84A33FBC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4A398-0344-4E90-8599-71F1463536E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9E93-2F88-4413-8B9A-395694BCB0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2C50-83C2-4709-BDB8-B297FF57F51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24CF-5CD6-4582-9293-36C62C0CB98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F56E6C-7EB8-444B-BE51-48D2719BBE9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E354CC-03C5-415C-8A11-75A74CE0506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C95949-E701-4ACA-A554-5483ECA6A75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170CB8-44EE-4FB6-8203-EEE693D449F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7F9E2B-5301-41D8-A7D6-F21DDF5BE3E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C1C0B2-6A43-42CC-AFE3-16F443FAC5A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780851-433F-42F9-A28B-A6DDA0BF1D3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D95A67-64F0-4295-9FC3-ED8A4500C92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A166C3-745A-4E6A-8263-26DE0BA6DA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98BA-01C4-40BA-8289-760FF5A7757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F15C0E-FABA-4A31-A610-A83DE38A8F5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433E1A-9598-40D3-8F35-62D7289ECED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A17A40-5044-47A2-8044-229D2E71643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EA2C5-2CE7-4D87-B5C2-480D1F6696E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FF090-9378-4CA5-9592-93946981F3A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A278E-4B70-4116-AA29-C48CB009C38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4A763-6C7C-4DEA-93AB-42F093C0EAB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79283-9CBF-4E11-9205-C560DFCB6E5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53245-A571-4601-B9E9-066C8C48F31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05872-E78F-43FF-AC36-DCDF8656F9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22F4-84EC-45FB-B165-661B9BC782D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C4020-88CE-4F26-8824-38A9A8C4865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6946D-F617-4BBB-953D-B34A0A199DD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10B7F-14F5-4E85-BCEE-F326BFE990C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88BAB-72FB-42EA-BE60-8A4D9CE3310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363A7-C146-44D6-8552-FE2BF8C4CF3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1D2FC-D130-4251-9DF8-5BBCC924D62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33AFE-02C7-4A33-82EA-A6CDD8DE008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CD79C-10A1-4E8A-B9F4-C922544A743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05471-31EB-41A2-AB78-65271356117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7C246-5B05-4145-B663-B0648C31EB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5EF8-F25D-4EB8-89B0-C3446040266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97C1A-5792-4C82-AF33-27240593125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5A1C-100D-4679-BDE7-F6F778DA444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0B719-0463-4C5D-90E1-54BAFD8C62C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09F8-4394-4E70-B32C-F87D70A2565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639EA-B2EE-445A-9F49-F8E22E391AC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99289-74FC-43AF-ABBC-8BD3B29A0FA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B7464-3278-41BC-BBF6-5717049C53A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EA523A-4C97-472B-986D-BF69BE375A7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7094F1-4EC0-4F18-B6D5-14AA61DCB10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1C7F04-0055-4E39-9E77-601314DD6B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3618-C210-4501-AAE9-E88D0EC1553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25E017-05DA-4874-A616-F320BD78FBE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BAE2F4-0CC8-4FEC-8058-2A187353E0B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D49BA6-BF03-4906-8C86-43BF338EFBF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B4F03E-A145-438D-BD6A-D506A77C8F1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9E7FF2-373D-45B2-8E42-AB4065154D9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F04FC8-4E89-4FEB-A5D9-E2A97AF3BF8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400F7A-8498-476D-A801-5BBFD3C7CCC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F348BC-BC62-4A07-8486-D2461183004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0A7291-201F-4650-9750-092833B2296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7F438-32CC-4354-AA85-741844A610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95CB-B812-4AC0-8E06-FCB024D86CB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F7B96-682C-444A-AFEB-C7C8C3E97F7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A1B79-5982-4359-91AD-D3129DC56E3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B4F08-A208-4E77-8139-EA6FE98943E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8724B-7524-4812-BED7-BB71CB43B38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D37DD-C8D0-4453-90DC-E54B6BC70C9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48B49-1B79-471E-B00A-0493A674FEB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46256-9342-4611-B377-E774749BF52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4DB33-26C4-47F9-BEB7-8303F299732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3BE7A-B8EC-4B88-BAC8-DCFAFE23167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783DB-E4FD-4515-AAC1-D06E85D23E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7432-D4A5-42F4-ACF9-8A0E5EE08E7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C78B5-7FA8-4684-8989-A678AB8C0F5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C4B7A-4845-4C57-A068-5D4593E6C9D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54032-EF72-4E8F-B18F-F9A913CD0FD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18898-681F-449D-A488-122E12B9D64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A5BB8-8374-4074-B59B-79BF8E8E04F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E1EFE-EF79-4E64-BD07-19A5DE79B25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DDEFC-E371-4E28-AD4D-9304BC368B4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5313D-94D7-49FD-9F44-E8001859D30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7A2BC-AB94-4B16-AFD0-D8A468C3894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34867-4F1C-454A-8F8F-491C578240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E31FF-AC58-4B1D-BB43-78390C5F523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62ECD-2250-4EF0-A248-8A4B66A6D73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2078-E1EF-42B1-A77B-17404CA9AD3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BA4BBB-9530-4D9B-A904-6CE2116D6FE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8F4D3B-303C-4B69-A480-685D8C648B3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CCA6B0-26F2-415E-A957-144B35D1C88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8EC732-5117-48B2-BA19-CF9694432E0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C92A4D-34C4-4BE9-ABD3-8B8E9F15611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39791A-CA78-48B5-AD46-1E15242A323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81D520-71EA-4A20-B2D4-1F92B5903F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C5AC85-07EA-4A01-B5D7-1F592CF3AD0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734D7F-547A-4825-A9C8-38B051DF240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4BAE16-2F88-40AA-AC04-ACCF80175B5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DA9561-5D7E-49C8-992C-8A058D1F72C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F7968C-614E-433A-ADD8-81AE61CEF0F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40A19F-6E96-48A4-9BBF-27205780BA1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8143C-EE5B-4897-AAD1-2BA04A8B1BF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0ACB9C-C0FF-4DB8-A308-4BFC98A9FF5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3ABEC-6212-44B7-B637-5CAEE8E22E6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9F564-4288-424C-9220-AA14C21EDD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A7FC9-43EA-4343-A386-1B30A7B4DA4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CE4ED-F00D-475E-BC40-79518A53CD6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A31E0-A67E-4F31-B3E7-528F1143CE7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3E1D2-74FF-4BF4-86D5-A130F26DBAB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BB06F-D354-4541-94BA-346DF35936E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8FC1F-2403-4912-ADBE-2D0CC949FA3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27ACC-B46A-4ABA-83B5-39A9CD93549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538B6-7B96-4B18-A5CC-4EEC471595F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620C5-2294-4189-8CAD-2EB14F14A8A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88581-0A8E-46DC-9A9D-0944A0CD92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47F0A-07B0-4220-AA94-1CF6812CAB3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BD3F-24D6-4A89-9884-D4BDDC3DE69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786F2-493C-4904-9788-D8F8ECEEAA0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9025F-588C-4E24-96AD-E23464CCC29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02A3B-60FE-42EE-935B-FFCBDD72B3A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036CB-ABEF-47AE-A49C-5096325D2E1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408AD-1D52-412A-B457-2B4B43D1701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40620-A7C3-416D-865D-A859F532286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55265-1E19-4373-A5B0-4FED272FDC7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F718BE-91DC-49F3-AEDC-8156E9D38C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A75E4E-FE3E-47DC-BB0D-FEAE0311462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E9BB5F-4D8E-45B4-8923-2C8B58AB4CF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F824A4-40E3-490B-9B3D-977CEE39AFB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E873EB-77E5-45B0-A5AE-9DBDC1E507F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27368D-7206-4AE9-A609-7716F2BAFB4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B7A68F-37A0-409E-83F5-AFB84B58B7D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044F9A-A9EA-41A1-A5AF-9BF0E6BF80F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2C938E-65EE-43D6-80DC-46F36544990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F5C9A3-2F30-41BE-B790-6F38726BBBA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16BFED-227F-42B7-A870-C18CB864F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25DD71-788F-4E31-BDFC-512C0D357A0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C8E467-1D6F-40E8-B57A-65458113FF7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FE5DB1-AE16-47A3-B5E3-5253654B4DF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2E166C-0DFF-4249-9B9C-ECEDDEF13C2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0382C1-14EA-423A-B56A-497B7452C90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92C08B-5B84-4696-A0CE-78536CF9B5B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2AD68C-00E9-473B-A27B-9DF35C6AD3B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F47D31-E9B8-4D41-9CA3-19B37D5F3AC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0410FF-F896-4E29-9B2A-E2182FE744A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1DD9C-D584-468A-A752-4B4EA9D391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26AC33-014E-4254-9AF0-E82F6EE9004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56AAB7-DD8C-4341-ACB1-0A22E5E5400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183CDC-6098-4A15-B1A6-6CB25C97AAA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50B9B-3383-4BEF-A368-98C6227662B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0449E-BF2E-44DB-ACD4-502EE8A828B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54585-2B01-4171-8F6F-B22C3E29151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12121-7968-4F7E-91B8-E852FD55CBA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5AA7F-C9A1-4A0F-9375-327AFF81339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057A6-B29C-4168-83C7-8DE1BAA3443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74B3A-E3CA-4827-8BC3-DF2CFA5C51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0FC07-D987-48BC-86D3-3E77DC2569D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6AC3E-8804-4DBF-A0CB-2C28F78B411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D06D4-7E2B-48D4-A796-3BD76B3ABC8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C385D-8704-4F75-BF46-3AF3D160639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A4333-6062-4635-BC58-0363AA497BC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3703-F0EF-4FC0-8C3E-A77A13C73E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7375-6F48-403F-ACBA-8FD449317F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BAFC-86E1-4871-BBFE-A8CD468F5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058B-8195-46FC-97C6-81099872E2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FC2ED-0223-4089-893B-A17838C4AD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C6A9-9C64-4894-A9C2-08E12C8E8E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CD62-F699-4E8D-A8DF-2F1F4B82C8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7024-CE2A-4DB3-B54F-4B7623B9DD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D6A6-046B-4226-9D05-E1182DE53A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8DDA-50FB-49B8-82F7-B30BED0B91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83FB-F27D-486F-B266-46EA9D3C47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D33E-CC67-42A2-A423-8D2E1C53EF9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203-E8D2-4F7F-BCAE-BFD3F04A71B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18B-9CA2-4B70-B6A7-A8571B7CB89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C6E-9841-4746-BB42-63AFE438C6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535-A0A0-4074-84C1-8CADABA303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72C-72FE-4C8D-A417-B50902001AE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310-6655-453A-BA36-D2AC471004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899-68D6-459F-BA26-C74702A498C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0D7-9337-4DB3-9DE0-73AEB79140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70E-89FC-4B54-AB46-41572BE0A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C4B-9494-441E-BFA7-47CD8F9044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3DB-7A55-4015-A7B9-16D63CD8A33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2EB-9ACF-4E96-AABD-3F198398C88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7918B-A9DA-4110-940A-00481E83C94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C37A3-A742-49F3-A806-147597BB12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74F72-E0DC-4424-A8B0-B7A69F7F4A0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345A6-AD06-4027-B34E-82147201DA5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51893-0E2F-4553-B88C-A1067CA4CD5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6FBC4-7941-4F60-99FC-DF38F2DED92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ADBE9-ED34-4E3F-BEBB-CD319A2E9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511D6-0946-488D-AAE9-DADEA17E5C3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C6F5A-6508-4218-8E56-662438B27EF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119C1-9E62-4CE2-B2D4-4D6F0A4E5C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B3E55-4411-498B-A0C7-B44BD80E52D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C6D62-EDAC-4981-8A5E-1742221DFA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F7EC8-59C5-4E01-BD22-AAE947826CC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6141B-A1DD-4E59-B0D9-E9BB430A850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D9773-4A3F-4743-997D-A896E02233B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C1429-1F4D-4079-AE1E-B1FB44F1C2E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E6CE-22BD-45E0-9848-956A230A1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B7097-2316-4754-8929-4600884C20B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C8D83-8DDB-475C-9E1F-813329868FF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7A954-3CBB-4122-A145-C36CA036F3C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C3246-4306-4A8B-8BC2-300495AA67F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21FA6-DC96-42D9-83B4-47086828279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2183E-0D2D-48BB-BECA-C722A40097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2AA60-9EAC-48B5-885F-0BB9184ADEE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3C35-6524-4B24-8357-61268101CC9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4592-E7F2-4EA7-B27A-2738551B7DE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20CB-8704-426A-82ED-8858B8106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AF8F-C485-4E71-8F8C-BE1BCFC6462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641B-9384-4C20-9DFD-7F8447C491D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D895-C5D3-4E04-A062-AF8BA311121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B4BC-B3F7-4A28-AB6D-76402B778CA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31BF-107A-4818-B90E-8616BED7B12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1667-C27C-488E-BE83-6C38130214B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CB41-D87B-49AB-AB3F-3F7AF5117AA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94A5-77C9-46F0-A740-1DD698ADF00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BBAE-4091-4F6C-B1B6-673AAA456B2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50CE-3ACB-4EE6-AC93-BFEF9F45370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FB11-A772-49C5-B2BB-2F7AA7C53C6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4712-8A98-4937-830A-2142D879D7F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028B-6F56-460C-B903-1D0E9F60D84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8015-422B-4211-81A4-FF46112D083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D658-F5D5-4321-987E-D0E75DE43C2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6DB9-7AF3-40D6-8EC7-993DBE1DAF0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83AC-FB5E-4C03-B650-D54636EDF18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F78D-5680-4144-AFC1-0C31AF0A12B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826B-343F-4876-BDFD-1D4104D4A09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65F7-20E9-4838-81D1-BB3A130EF17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CEA2-0A0B-44B9-9B85-87EB0D30A00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984E-1776-4C37-A117-4232B2240C9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541D-AFBE-4D92-9E38-8EE3DC16B26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1FD1-6EA9-46D4-8F75-D9A262F1AF9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970440"/>
            <a:ext cx="51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Cali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l área metropolitana de Cali incluye a Yumb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685800" y="47628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250920" y="522936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*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6 CuadroTexto"/>
          <p:cNvSpPr/>
          <p:nvPr/>
        </p:nvSpPr>
        <p:spPr>
          <a:xfrm>
            <a:off x="126504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38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366920" y="476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6 CuadroTexto"/>
          <p:cNvSpPr/>
          <p:nvPr/>
        </p:nvSpPr>
        <p:spPr>
          <a:xfrm>
            <a:off x="12110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1 Imagen" descr=""/>
          <p:cNvPicPr/>
          <p:nvPr/>
        </p:nvPicPr>
        <p:blipFill>
          <a:blip r:embed="rId1"/>
          <a:stretch/>
        </p:blipFill>
        <p:spPr>
          <a:xfrm>
            <a:off x="1084320" y="1585800"/>
            <a:ext cx="72262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971640" y="549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468360" y="522936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^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: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8 CuadroTexto"/>
          <p:cNvSpPr/>
          <p:nvPr/>
        </p:nvSpPr>
        <p:spPr>
          <a:xfrm>
            <a:off x="115056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7" name="1 Imagen" descr=""/>
          <p:cNvPicPr/>
          <p:nvPr/>
        </p:nvPicPr>
        <p:blipFill>
          <a:blip r:embed="rId1"/>
          <a:stretch/>
        </p:blipFill>
        <p:spPr>
          <a:xfrm>
            <a:off x="758880" y="1614600"/>
            <a:ext cx="76248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1690560" y="6206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6"/>
          <p:cNvSpPr/>
          <p:nvPr/>
        </p:nvSpPr>
        <p:spPr>
          <a:xfrm>
            <a:off x="749160" y="5229360"/>
            <a:ext cx="7351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^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: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8 CuadroTexto"/>
          <p:cNvSpPr/>
          <p:nvPr/>
        </p:nvSpPr>
        <p:spPr>
          <a:xfrm>
            <a:off x="1212480" y="4797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1 Imagen" descr=""/>
          <p:cNvPicPr/>
          <p:nvPr/>
        </p:nvPicPr>
        <p:blipFill>
          <a:blip r:embed="rId1"/>
          <a:stretch/>
        </p:blipFill>
        <p:spPr>
          <a:xfrm>
            <a:off x="690480" y="1773360"/>
            <a:ext cx="77630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1189080" y="6206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 Box 4"/>
          <p:cNvSpPr/>
          <p:nvPr/>
        </p:nvSpPr>
        <p:spPr>
          <a:xfrm>
            <a:off x="155880" y="5516640"/>
            <a:ext cx="800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6 CuadroTexto"/>
          <p:cNvSpPr/>
          <p:nvPr/>
        </p:nvSpPr>
        <p:spPr>
          <a:xfrm>
            <a:off x="1625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979560" y="1628640"/>
            <a:ext cx="71136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5 CuadroTexto"/>
          <p:cNvSpPr/>
          <p:nvPr/>
        </p:nvSpPr>
        <p:spPr>
          <a:xfrm>
            <a:off x="216504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 Box 3"/>
          <p:cNvSpPr/>
          <p:nvPr/>
        </p:nvSpPr>
        <p:spPr>
          <a:xfrm>
            <a:off x="1332000" y="54936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otal 13 ciudades, áreas metropolitanas y 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Agosto - Octu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1 Imagen" descr=""/>
          <p:cNvPicPr/>
          <p:nvPr/>
        </p:nvPicPr>
        <p:blipFill>
          <a:blip r:embed="rId1"/>
          <a:stretch/>
        </p:blipFill>
        <p:spPr>
          <a:xfrm>
            <a:off x="1768320" y="1989000"/>
            <a:ext cx="5683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Cali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8" name="2 Imagen" descr=""/>
          <p:cNvPicPr/>
          <p:nvPr/>
        </p:nvPicPr>
        <p:blipFill>
          <a:blip r:embed="rId1"/>
          <a:stretch/>
        </p:blipFill>
        <p:spPr>
          <a:xfrm>
            <a:off x="1258920" y="1751040"/>
            <a:ext cx="6337440" cy="1533600"/>
          </a:xfrm>
          <a:prstGeom prst="rect">
            <a:avLst/>
          </a:prstGeom>
          <a:ln w="0">
            <a:noFill/>
          </a:ln>
        </p:spPr>
      </p:pic>
      <p:pic>
        <p:nvPicPr>
          <p:cNvPr id="1329" name="1 Imagen" descr=""/>
          <p:cNvPicPr/>
          <p:nvPr/>
        </p:nvPicPr>
        <p:blipFill>
          <a:blip r:embed="rId2"/>
          <a:stretch/>
        </p:blipFill>
        <p:spPr>
          <a:xfrm>
            <a:off x="1449360" y="3860640"/>
            <a:ext cx="60991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1 CuadroTexto"/>
          <p:cNvSpPr/>
          <p:nvPr/>
        </p:nvSpPr>
        <p:spPr>
          <a:xfrm>
            <a:off x="1308240" y="33336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Valle del cau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4 CuadroTexto"/>
          <p:cNvSpPr/>
          <p:nvPr/>
        </p:nvSpPr>
        <p:spPr>
          <a:xfrm>
            <a:off x="146124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2" name="1 Imagen" descr=""/>
          <p:cNvPicPr/>
          <p:nvPr/>
        </p:nvPicPr>
        <p:blipFill>
          <a:blip r:embed="rId1"/>
          <a:stretch/>
        </p:blipFill>
        <p:spPr>
          <a:xfrm>
            <a:off x="1000080" y="1801800"/>
            <a:ext cx="72230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09920" y="3798720"/>
            <a:ext cx="525636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Cali AM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4080" y="2133720"/>
            <a:ext cx="7575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3103560" y="1511280"/>
            <a:ext cx="5572080" cy="206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203640" y="289080"/>
            <a:ext cx="568944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47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(2006 -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612800" y="1844640"/>
            <a:ext cx="6059520" cy="347976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13012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1332000" y="47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213012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461960" y="1676520"/>
            <a:ext cx="6220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474840" y="2276640"/>
            <a:ext cx="81943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scar Eduardo Reyes Nieto</cp:lastModifiedBy>
  <cp:lastPrinted>2015-08-26T20:08:27Z</cp:lastPrinted>
  <dcterms:modified xsi:type="dcterms:W3CDTF">2015-12-11T12:59:35Z</dcterms:modified>
  <cp:revision>189</cp:revision>
  <dc:subject/>
  <dc:title>Diapositiva 1</dc:title>
</cp:coreProperties>
</file>